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0CE25-C025-4FAB-85DA-613D610D7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199D-F47F-4A01-A4B8-1D92B369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3D080-917E-4AB8-96CF-BDF152F9E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32F98-5FF6-46D7-934C-388AD214B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FE1B5-A5FD-4AF8-A730-5B7FA10D3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4FB45-8B0A-42E7-8002-B2BAE2AB2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460A2-4D0E-4EB4-B79D-A4EBC74CB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663CD-FB4B-49A2-A2A3-AFBF23FF6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7B875-D363-4EBD-A4A7-B0BB65007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C1DBB-E4AF-4300-81A0-00BC4603B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9AD4A-4AC1-4E4E-AE6E-D6B1E7DF2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0F03-7A56-4F82-AD11-FC306ABE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FD7D1-E8BE-4D5E-B62B-49E1DFA4D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EC9E-2528-434E-A7AE-81943377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3A873-D84D-469F-AFF3-E29F6848A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B776A-36EE-4171-99DB-F3BA8EEDE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F6220-19DB-4F17-B817-0B3D143CA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D421-AE7C-4EA7-9D53-32FE7D38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BC7A-1010-4AFA-B015-31F450D2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AED3-A3AE-4F60-8E8B-4BADB5F0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47CA-A221-4F22-B3DB-4382C210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6EDE-351B-4EFE-AE30-F41845F3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A7DD-4F0F-42E0-AC97-A2D0DF9F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8DF1-723D-4C75-8298-0820F56D5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37E5-9B9C-4349-BF11-2A6E3E1D42F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4169-340C-4224-A83F-0FCA4E64FAD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omic Sans MS"/>
              </a:rPr>
              <a:t>Anger Essay Plan</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ep-by-step Guid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ay Introduction</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are going to begin writing our Anger essay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will start by writing our Introd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at will we inclu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ive a Try to give a definition for the word, anger. What does anger mean? Can you think of any slang terms for it? </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lain that we all are capable of anger from the moment we are born - you might want to back up this point, explaining how babies show anger, teenagers, adults, OAPs </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o on to make the point that anger is all around us in every-day life - give examples of anger from things you have seen - at home, at school, on TV/video, on the road</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 sure you make each example you have used come alive by describing it in detail, using the most interesting vocabulary possible</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1</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at you yourself have experienced anger – also tell the reader that in the rest of your essay you intend to explain what makes you angry and why</a:t>
            </a:r>
            <a:endParaRPr b="0" lang="en-US" sz="3200" spc="-1" strike="noStrike">
              <a:solidFill>
                <a:srgbClr val="000000"/>
              </a:solidFill>
              <a:latin typeface="Comic Sans MS"/>
            </a:endParaRPr>
          </a:p>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ll the reader if you are normally the kind of person who flies into a rage or if you are normally easy-going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sing 1 of the 4 examples you have been working on, describe in detail when you lost your temper. </a:t>
            </a:r>
            <a:endParaRPr b="0" lang="en-US" sz="2100" spc="-1" strike="noStrike">
              <a:solidFill>
                <a:srgbClr val="000000"/>
              </a:solidFill>
              <a:latin typeface="Comic Sans MS"/>
            </a:endParaRPr>
          </a:p>
          <a:p>
            <a:pPr lvl="1" marL="735480" indent="-28296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lain</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ow the whole thing came about </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hy you reacted as you did </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nd how the situation ended. Did your anger help or did it lead to more problems?</a:t>
            </a:r>
            <a:endParaRPr b="0" lang="en-US" sz="2100" spc="-1" strike="noStrike">
              <a:solidFill>
                <a:srgbClr val="000000"/>
              </a:solidFill>
              <a:latin typeface="Comic Sans MS"/>
            </a:endParaRPr>
          </a:p>
          <a:p>
            <a:pPr lvl="2" marL="113148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 sure each example is interesting and uses the best vocabulary you can to bring it alive. Really get across to the reader just how you felt, what was going through your mind/body</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3</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2</a:t>
            </a:r>
            <a:r>
              <a:rPr b="0" lang="en-US" sz="2800" spc="-1" strike="noStrike" baseline="30000">
                <a:solidFill>
                  <a:srgbClr val="000000"/>
                </a:solidFill>
                <a:latin typeface="Comic Sans MS"/>
              </a:rPr>
              <a:t>nd</a:t>
            </a:r>
            <a:r>
              <a:rPr b="0" lang="en-US" sz="2800" spc="-1" strike="noStrike">
                <a:solidFill>
                  <a:srgbClr val="000000"/>
                </a:solidFill>
                <a:latin typeface="Comic Sans MS"/>
              </a:rPr>
              <a: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4</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3</a:t>
            </a:r>
            <a:r>
              <a:rPr b="0" lang="en-US" sz="2800" spc="-1" strike="noStrike" baseline="30000">
                <a:solidFill>
                  <a:srgbClr val="000000"/>
                </a:solidFill>
                <a:latin typeface="Comic Sans MS"/>
              </a:rPr>
              <a:t>rd</a:t>
            </a:r>
            <a:r>
              <a:rPr b="0" lang="en-US" sz="2800" spc="-1" strike="noStrike">
                <a:solidFill>
                  <a:srgbClr val="000000"/>
                </a:solidFill>
                <a:latin typeface="Comic Sans MS"/>
              </a:rPr>
              <a: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5</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las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 your conclusion</a:t>
            </a:r>
            <a:endParaRPr b="0" lang="en-US" sz="36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m up what you have learned about anger from your essay</a:t>
            </a:r>
            <a:endParaRPr b="0" lang="en-US" sz="36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ll the reader what you  have learned about yourself</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2T15:59:50Z</dcterms:created>
  <dc:creator>Gemma Pirie</dc:creator>
  <dc:description/>
  <dc:language>en-US</dc:language>
  <cp:lastModifiedBy>Gemma Pirie</cp:lastModifiedBy>
  <dcterms:modified xsi:type="dcterms:W3CDTF">2004-08-22T16:45:54Z</dcterms:modified>
  <cp:revision>16</cp:revision>
  <dc:subject/>
  <dc:title>Essay Introduction</dc:title>
</cp:coreProperties>
</file>